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6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D13A-CF10-45FC-9E6E-0CA303156A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9D3E-3DCA-440A-BF0A-9D5E5E35A7F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9204-77D5-4891-B122-A1AE286EF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E5CE-14EC-476E-9D33-9250615D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4C65-DB73-4C5F-8B79-5C4D0594A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2846-8085-42B7-A774-254491D40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310C-EE8C-4585-B6F9-DAF39A18C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4C35-E9CA-4541-9620-D1F8F842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FE7A-E77D-464A-93BE-FF28859F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0A8C-BCD1-4833-8224-D91B1544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8DC6-BDC1-440A-B61F-E675E0CB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0545-C697-4393-A182-9E1F2C27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FF60-1C32-4F8B-94A3-6C15AF26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1355-E3C4-4A80-81D9-1202C39B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F286F-CA12-4EE8-97C6-93B35EAD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927E-4244-4610-A517-57C3C796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35D1-5B06-44BA-B551-7F7B65B0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6891-5EC5-42B6-BD36-B7EB5D3B8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0AF3-C2F5-4BE7-B634-C5B9B5EF3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D46B9-BF21-4CBC-97A6-3E507B277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D321A-A45B-4BB0-A91E-431A01F2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67B71-5775-4913-B8BE-DFDEED49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4B4C4-DEC7-468C-93AB-7AE32FEC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B09EE-41A7-4D31-8CF4-CD3D695E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5D52-13DA-47F2-B522-ECC02819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CF85E-661B-4DF6-B8BA-C9493185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8F7B7-CB5C-42CB-9EA0-10EAD16E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AE103-8E6A-48C3-8DAF-C20CACF5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FA5D1-2801-4EC6-8842-03B3E5B1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237C1-9AB3-48A3-B8F6-2B150646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E5684-4F22-4B72-8753-89A7AA303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607DD-863C-416F-ABA7-0A6869AE1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C14C0-9033-47F0-8829-649AB4CD5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07E2A-ECAA-4764-B231-0EF5A0FE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F3C1E-1823-467D-B042-869B296E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C184-4EF7-48BA-B838-9A879FE5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93914-11F2-4B55-A0AE-40B66631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D7568-C31D-4407-9604-539BFAA3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F0E7C-7B53-484F-AFB2-E3BA91E0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402D8-C8A4-4DE4-A687-15FC23F1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E4C1B-E4F8-4A11-A98D-F64845D8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E6070-5E83-4222-94FF-31F646F9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45618-FB40-4BCC-845B-254CE730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12658-BA2B-425F-93FD-CD97CFF18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0DADD-9661-4B30-8035-0D7355286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38E5-FD17-49C3-8275-F87CFBED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C21A-9CFD-40F8-804A-AF74E2F8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9F51-0343-45C1-BEEF-C47B5503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8DF9-C4E6-4ED6-8E33-9A892445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75D1-602E-4A33-801E-57C0B4DA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085F-FF4D-4DDB-B0C7-A7A4CD602C3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B2E8-4F36-4CA6-BF06-F0039E79950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D98B-BFC1-406D-B5EF-78989817903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1649-C2A2-48CF-8013-57BD07224AE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5" descr=""/>
          <p:cNvPicPr/>
          <p:nvPr/>
        </p:nvPicPr>
        <p:blipFill>
          <a:blip r:embed="rId1"/>
          <a:stretch/>
        </p:blipFill>
        <p:spPr>
          <a:xfrm>
            <a:off x="596880" y="762120"/>
            <a:ext cx="8150400" cy="1719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arcdm"/>
          <p:cNvPicPr/>
          <p:nvPr/>
        </p:nvPicPr>
        <p:blipFill>
          <a:blip r:embed="rId2"/>
          <a:stretch/>
        </p:blipFill>
        <p:spPr>
          <a:xfrm>
            <a:off x="539640" y="5276880"/>
            <a:ext cx="897120" cy="10666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5"/>
          <p:cNvSpPr/>
          <p:nvPr/>
        </p:nvSpPr>
        <p:spPr>
          <a:xfrm>
            <a:off x="2057400" y="5029200"/>
            <a:ext cx="667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агазейщикова Наталья Геннадьевн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альник отдела статистики и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формационно-аналитической обработки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УКС штаба ВСМК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5" name="Rectangle 5" descr=""/>
          <p:cNvPicPr/>
          <p:nvPr/>
        </p:nvPicPr>
        <p:blipFill>
          <a:blip r:embed="rId3"/>
          <a:stretch/>
        </p:blipFill>
        <p:spPr>
          <a:xfrm>
            <a:off x="566640" y="2560680"/>
            <a:ext cx="8332920" cy="2255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3"/>
          <p:cNvSpPr/>
          <p:nvPr/>
        </p:nvSpPr>
        <p:spPr>
          <a:xfrm>
            <a:off x="38160" y="4633920"/>
            <a:ext cx="90406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же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до начала эвакуации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0/31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Прямоугольник 2"/>
          <p:cNvSpPr/>
          <p:nvPr/>
        </p:nvSpPr>
        <p:spPr>
          <a:xfrm>
            <a:off x="6210360" y="228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 продолжение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3" name="Таблица 6" descr=""/>
          <p:cNvPicPr/>
          <p:nvPr/>
        </p:nvPicPr>
        <p:blipFill>
          <a:blip r:embed="rId1"/>
          <a:stretch/>
        </p:blipFill>
        <p:spPr>
          <a:xfrm>
            <a:off x="378000" y="695160"/>
            <a:ext cx="5510160" cy="392616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3"/>
          <p:cNvSpPr/>
          <p:nvPr/>
        </p:nvSpPr>
        <p:spPr>
          <a:xfrm>
            <a:off x="914400" y="4952880"/>
            <a:ext cx="1752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Прямоугольник 12"/>
          <p:cNvSpPr/>
          <p:nvPr/>
        </p:nvSpPr>
        <p:spPr>
          <a:xfrm>
            <a:off x="5867280" y="13590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6/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Прямоугольник 13"/>
          <p:cNvSpPr/>
          <p:nvPr/>
        </p:nvSpPr>
        <p:spPr>
          <a:xfrm>
            <a:off x="5857920" y="19242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8/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Прямоугольник 14"/>
          <p:cNvSpPr/>
          <p:nvPr/>
        </p:nvSpPr>
        <p:spPr>
          <a:xfrm>
            <a:off x="5886360" y="250524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30/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81000" y="5546880"/>
            <a:ext cx="9040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ходе эвакуации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Прямоугольник 3"/>
          <p:cNvSpPr/>
          <p:nvPr/>
        </p:nvSpPr>
        <p:spPr>
          <a:xfrm>
            <a:off x="1066680" y="575316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Прямоугольник 3"/>
          <p:cNvSpPr/>
          <p:nvPr/>
        </p:nvSpPr>
        <p:spPr>
          <a:xfrm>
            <a:off x="5170320" y="5757840"/>
            <a:ext cx="1893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2/33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Прямоугольник 18"/>
          <p:cNvSpPr/>
          <p:nvPr/>
        </p:nvSpPr>
        <p:spPr>
          <a:xfrm>
            <a:off x="5888160" y="3141720"/>
            <a:ext cx="326520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6/27  ≥  графа 32/3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92160" y="6110280"/>
            <a:ext cx="8823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мед.организациях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Прямоугольник 3"/>
          <p:cNvSpPr/>
          <p:nvPr/>
        </p:nvSpPr>
        <p:spPr>
          <a:xfrm>
            <a:off x="990720" y="640080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Прямоугольник 3"/>
          <p:cNvSpPr/>
          <p:nvPr/>
        </p:nvSpPr>
        <p:spPr>
          <a:xfrm>
            <a:off x="5886360" y="6400800"/>
            <a:ext cx="1649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4/35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Прямоугольник 22"/>
          <p:cNvSpPr/>
          <p:nvPr/>
        </p:nvSpPr>
        <p:spPr>
          <a:xfrm>
            <a:off x="5856120" y="364968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8/29  ≥  графа 34/35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1"/>
          <p:cNvSpPr/>
          <p:nvPr/>
        </p:nvSpPr>
        <p:spPr>
          <a:xfrm>
            <a:off x="228600" y="138240"/>
            <a:ext cx="86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ечного фонда медицинских организаций в чрезвычайных ситуациях (ЧС)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Прямоугольник 2"/>
          <p:cNvSpPr/>
          <p:nvPr/>
        </p:nvSpPr>
        <p:spPr>
          <a:xfrm>
            <a:off x="232200" y="4748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58" name="Таблица 4" descr=""/>
          <p:cNvPicPr/>
          <p:nvPr/>
        </p:nvPicPr>
        <p:blipFill>
          <a:blip r:embed="rId1"/>
          <a:stretch/>
        </p:blipFill>
        <p:spPr>
          <a:xfrm>
            <a:off x="225360" y="781200"/>
            <a:ext cx="8680680" cy="4529160"/>
          </a:xfrm>
          <a:prstGeom prst="rect">
            <a:avLst/>
          </a:prstGeom>
          <a:ln w="0">
            <a:noFill/>
          </a:ln>
        </p:spPr>
      </p:pic>
      <p:sp>
        <p:nvSpPr>
          <p:cNvPr id="259" name="Прямоугольник 5"/>
          <p:cNvSpPr/>
          <p:nvPr/>
        </p:nvSpPr>
        <p:spPr>
          <a:xfrm>
            <a:off x="228600" y="5257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ивших пораже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стр.  1  графа  4 / 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о госпитализирова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28 / 2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Прямоугольник 6"/>
          <p:cNvSpPr/>
          <p:nvPr/>
        </p:nvSpPr>
        <p:spPr>
          <a:xfrm>
            <a:off x="290520" y="6019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 стр.  1  графа  8 / 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число погибших (умерших) в медицинской организации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34 / 3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Прямоугольник 6"/>
          <p:cNvSpPr/>
          <p:nvPr/>
        </p:nvSpPr>
        <p:spPr>
          <a:xfrm>
            <a:off x="2514600" y="2416320"/>
            <a:ext cx="6400800" cy="1770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5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≤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с 4 по 9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4/5 = графа 6/7 + 8/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125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3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4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4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3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3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1"/>
          <p:cNvSpPr/>
          <p:nvPr/>
        </p:nvSpPr>
        <p:spPr>
          <a:xfrm>
            <a:off x="857160" y="860400"/>
            <a:ext cx="790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чет среднегодовых коек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55 форма, табл. 5 000 гр. 3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47600" y="3505320"/>
          <a:ext cx="8637480" cy="669960"/>
        </p:xfrm>
        <a:graphic>
          <a:graphicData uri="http://schemas.openxmlformats.org/drawingml/2006/table">
            <a:tbl>
              <a:tblPr/>
              <a:tblGrid>
                <a:gridCol w="4464000"/>
                <a:gridCol w="360360"/>
                <a:gridCol w="647640"/>
                <a:gridCol w="505080"/>
                <a:gridCol w="1008000"/>
                <a:gridCol w="287280"/>
                <a:gridCol w="1365120"/>
              </a:tblGrid>
              <a:tr h="33552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 коек х 3 дня  + 10 коек х 2 дн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920" rIns="439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2 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 де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395280" y="5334120"/>
          <a:ext cx="7993080" cy="1008000"/>
        </p:xfrm>
        <a:graphic>
          <a:graphicData uri="http://schemas.openxmlformats.org/drawingml/2006/table">
            <a:tbl>
              <a:tblPr/>
              <a:tblGrid>
                <a:gridCol w="2851200"/>
                <a:gridCol w="460440"/>
                <a:gridCol w="593640"/>
                <a:gridCol w="388800"/>
                <a:gridCol w="1825920"/>
                <a:gridCol w="255240"/>
                <a:gridCol w="1617840"/>
              </a:tblGrid>
              <a:tr h="505080">
                <a:tc>
                  <a:txBody>
                    <a:bodyPr lIns="53280" rIns="53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 + 1,5  + 0,5 + 2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3280" rIns="53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48 койки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5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5" name="Rectangle 1"/>
          <p:cNvSpPr/>
          <p:nvPr/>
        </p:nvSpPr>
        <p:spPr>
          <a:xfrm>
            <a:off x="395280" y="182736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месячных коек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было развернуто: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января – 8 коек             8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января – 8 коек             9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января – 8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TextBox 5"/>
          <p:cNvSpPr/>
          <p:nvPr/>
        </p:nvSpPr>
        <p:spPr>
          <a:xfrm>
            <a:off x="395280" y="4267080"/>
            <a:ext cx="85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годовых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– 1,4 койки, в марте – 1,5 койки, в сентябре - 0,5 койк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абре – 2,4 койк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6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2"/>
          <p:cNvSpPr/>
          <p:nvPr/>
        </p:nvSpPr>
        <p:spPr>
          <a:xfrm>
            <a:off x="1160640" y="1295280"/>
            <a:ext cx="699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работе учебного центра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Прямоугольник 1"/>
          <p:cNvSpPr/>
          <p:nvPr/>
        </p:nvSpPr>
        <p:spPr>
          <a:xfrm>
            <a:off x="460800" y="2133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419040" y="2743200"/>
          <a:ext cx="8553600" cy="1279440"/>
        </p:xfrm>
        <a:graphic>
          <a:graphicData uri="http://schemas.openxmlformats.org/drawingml/2006/table">
            <a:tbl>
              <a:tblPr/>
              <a:tblGrid>
                <a:gridCol w="735120"/>
                <a:gridCol w="1031760"/>
                <a:gridCol w="735120"/>
                <a:gridCol w="641160"/>
                <a:gridCol w="685800"/>
                <a:gridCol w="685800"/>
                <a:gridCol w="762120"/>
                <a:gridCol w="1027080"/>
                <a:gridCol w="752400"/>
                <a:gridCol w="1497240"/>
              </a:tblGrid>
              <a:tr h="213480">
                <a:tc gridSpan="2" row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о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ых цик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учено приемам оказания первой помощ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задействованных преподав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трудник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выезд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В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М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Прямоугольник 4"/>
          <p:cNvSpPr/>
          <p:nvPr/>
        </p:nvSpPr>
        <p:spPr>
          <a:xfrm>
            <a:off x="476280" y="49528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4 + 5 + 6 + 7 + 8  + 9 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3" dur="125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2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3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3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"/>
          <p:cNvSpPr/>
          <p:nvPr/>
        </p:nvSpPr>
        <p:spPr>
          <a:xfrm>
            <a:off x="290880" y="8161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Прямоугольник 2"/>
          <p:cNvSpPr/>
          <p:nvPr/>
        </p:nvSpPr>
        <p:spPr>
          <a:xfrm>
            <a:off x="152280" y="228600"/>
            <a:ext cx="88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роведенных учениях, тренировках и занятиях в ТЦМК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82600" y="1335240"/>
          <a:ext cx="8686800" cy="4449600"/>
        </p:xfrm>
        <a:graphic>
          <a:graphicData uri="http://schemas.openxmlformats.org/drawingml/2006/table">
            <a:tbl>
              <a:tblPr/>
              <a:tblGrid>
                <a:gridCol w="3733920"/>
                <a:gridCol w="685800"/>
                <a:gridCol w="685800"/>
                <a:gridCol w="1066680"/>
                <a:gridCol w="1219320"/>
                <a:gridCol w="1295280"/>
              </a:tblGrid>
              <a:tr h="243720">
                <a:tc rowSpan="2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чрезвычайной ситуаци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Ч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учений (тренировок, занят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андно-штаб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бные трениро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ко-специаль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генные ЧС -  всего, 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пассажирских поездов и поездов метрополит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иационные катастроф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на автодорог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водного транспо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жары и взрыв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АХ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Р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ОБ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очие техноген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Прямоугольник 4"/>
          <p:cNvSpPr/>
          <p:nvPr/>
        </p:nvSpPr>
        <p:spPr>
          <a:xfrm>
            <a:off x="228600" y="57913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чений (тренировок, занятий) всего  =  число командно-штабных учений +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штабных тренировок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тактико-специальных учений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Прямоугольник 6"/>
          <p:cNvSpPr/>
          <p:nvPr/>
        </p:nvSpPr>
        <p:spPr>
          <a:xfrm>
            <a:off x="4724280" y="2666880"/>
            <a:ext cx="4267440" cy="1313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4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 + 11 + 12 + 1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Прямоугольник 7"/>
          <p:cNvSpPr/>
          <p:nvPr/>
        </p:nvSpPr>
        <p:spPr>
          <a:xfrm>
            <a:off x="4724280" y="3990960"/>
            <a:ext cx="4267440" cy="551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3 = графа 4 + 5 + 6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9" dur="125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5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5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64" nodeType="after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470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1"/>
          <p:cNvSpPr/>
          <p:nvPr/>
        </p:nvSpPr>
        <p:spPr>
          <a:xfrm>
            <a:off x="304920" y="3808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трассовых пунктов экстрен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8" name="Прямоугольник 2"/>
          <p:cNvSpPr/>
          <p:nvPr/>
        </p:nvSpPr>
        <p:spPr>
          <a:xfrm>
            <a:off x="384480" y="11444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80880" y="1752480"/>
          <a:ext cx="8229600" cy="4389480"/>
        </p:xfrm>
        <a:graphic>
          <a:graphicData uri="http://schemas.openxmlformats.org/drawingml/2006/table">
            <a:tbl>
              <a:tblPr/>
              <a:tblGrid>
                <a:gridCol w="6705720"/>
                <a:gridCol w="762120"/>
                <a:gridCol w="761760"/>
              </a:tblGrid>
              <a:tr h="487080"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ссовые пункты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трассовые пункты территориальных центров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ов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была медицинская помощь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ваку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питализ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помощь авиамедицинской бригадой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е во время медицинск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мерших во время санитарно-авиационн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6" dur="1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8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9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5"/>
          <p:cNvSpPr/>
          <p:nvPr/>
        </p:nvSpPr>
        <p:spPr>
          <a:xfrm>
            <a:off x="2468520" y="76212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6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247680" y="1676520"/>
            <a:ext cx="8305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ОТДЕЛЕНИЯ  ЭКСТРЕННОЙ КОНСУЛЬТАТИВНОЙ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 ПОМОЩИ И 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ЭВАУАЦИИ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19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5" dur="2000" fill="hold"/>
                                        <p:tgtEl>
                                          <p:spTgt spid="2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08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50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51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1"/>
          <p:cNvSpPr/>
          <p:nvPr/>
        </p:nvSpPr>
        <p:spPr>
          <a:xfrm>
            <a:off x="609480" y="763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б отделении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Прямоугольник 2"/>
          <p:cNvSpPr/>
          <p:nvPr/>
        </p:nvSpPr>
        <p:spPr>
          <a:xfrm>
            <a:off x="374040" y="7588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80880" y="1114560"/>
          <a:ext cx="8001000" cy="4543200"/>
        </p:xfrm>
        <a:graphic>
          <a:graphicData uri="http://schemas.openxmlformats.org/drawingml/2006/table">
            <a:tbl>
              <a:tblPr/>
              <a:tblGrid>
                <a:gridCol w="6416640"/>
                <a:gridCol w="677880"/>
                <a:gridCol w="906480"/>
              </a:tblGrid>
              <a:tr h="639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на базе областной, краевой, республиканской, окружной боль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ов 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 муниципальных образований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х медицинских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, оказывающие медицинскую помощь детям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детск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1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о-консультативный цен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бригады перинатального цен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Прямоугольник 4"/>
          <p:cNvSpPr/>
          <p:nvPr/>
        </p:nvSpPr>
        <p:spPr>
          <a:xfrm>
            <a:off x="338040" y="5715000"/>
            <a:ext cx="37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1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5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6 + 7 + 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6" name="Прямоугольник 5"/>
          <p:cNvSpPr/>
          <p:nvPr/>
        </p:nvSpPr>
        <p:spPr>
          <a:xfrm>
            <a:off x="4572000" y="5867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9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0 + 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7" dur="125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1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2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3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Прямоугольник 1"/>
          <p:cNvSpPr/>
          <p:nvPr/>
        </p:nvSpPr>
        <p:spPr>
          <a:xfrm>
            <a:off x="76320" y="18900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отделения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Прямоугольник 2"/>
          <p:cNvSpPr/>
          <p:nvPr/>
        </p:nvSpPr>
        <p:spPr>
          <a:xfrm>
            <a:off x="384480" y="8380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80880" y="1219320"/>
          <a:ext cx="8534520" cy="5165640"/>
        </p:xfrm>
        <a:graphic>
          <a:graphicData uri="http://schemas.openxmlformats.org/drawingml/2006/table">
            <a:tbl>
              <a:tblPr/>
              <a:tblGrid>
                <a:gridCol w="2590920"/>
                <a:gridCol w="762120"/>
                <a:gridCol w="685800"/>
                <a:gridCol w="761760"/>
                <a:gridCol w="1295640"/>
                <a:gridCol w="761760"/>
                <a:gridCol w="609840"/>
                <a:gridCol w="533160"/>
                <a:gridCol w="533520"/>
              </a:tblGrid>
              <a:tr h="730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                                         статус спас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лификационн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marL="34920" indent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атологи-ортоп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-реаним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ы-гине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ис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си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сес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Прямоугольник 4"/>
          <p:cNvSpPr/>
          <p:nvPr/>
        </p:nvSpPr>
        <p:spPr>
          <a:xfrm>
            <a:off x="4419720" y="3036960"/>
            <a:ext cx="4495680" cy="23799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6 + 1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9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0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8" dur="125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5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56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6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Прямоугольник 1"/>
          <p:cNvSpPr/>
          <p:nvPr/>
        </p:nvSpPr>
        <p:spPr>
          <a:xfrm>
            <a:off x="268560" y="6602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Прямоугольник 2"/>
          <p:cNvSpPr/>
          <p:nvPr/>
        </p:nvSpPr>
        <p:spPr>
          <a:xfrm>
            <a:off x="0" y="76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отделения экстренной 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тивной медицинской помощ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04920" y="1146240"/>
          <a:ext cx="8686800" cy="1903320"/>
        </p:xfrm>
        <a:graphic>
          <a:graphicData uri="http://schemas.openxmlformats.org/drawingml/2006/table">
            <a:tbl>
              <a:tblPr/>
              <a:tblGrid>
                <a:gridCol w="609480"/>
                <a:gridCol w="533520"/>
                <a:gridCol w="533160"/>
                <a:gridCol w="533520"/>
                <a:gridCol w="609480"/>
                <a:gridCol w="914400"/>
                <a:gridCol w="533520"/>
                <a:gridCol w="533520"/>
                <a:gridCol w="533160"/>
                <a:gridCol w="533520"/>
                <a:gridCol w="533520"/>
                <a:gridCol w="609480"/>
                <a:gridCol w="533520"/>
                <a:gridCol w="533160"/>
                <a:gridCol w="609840"/>
              </a:tblGrid>
              <a:tr h="182880"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 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ми работник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госпитальном этап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228600" y="3352680"/>
          <a:ext cx="8686800" cy="1684440"/>
        </p:xfrm>
        <a:graphic>
          <a:graphicData uri="http://schemas.openxmlformats.org/drawingml/2006/table">
            <a:tbl>
              <a:tblPr/>
              <a:tblGrid>
                <a:gridCol w="826920"/>
                <a:gridCol w="773280"/>
                <a:gridCol w="685800"/>
                <a:gridCol w="762120"/>
                <a:gridCol w="1066680"/>
                <a:gridCol w="1219320"/>
                <a:gridCol w="1143000"/>
                <a:gridCol w="1143000"/>
                <a:gridCol w="1066680"/>
              </a:tblGrid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960">
                <a:tc rowSpan="6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Прямоугольник 6"/>
          <p:cNvSpPr/>
          <p:nvPr/>
        </p:nvSpPr>
        <p:spPr>
          <a:xfrm>
            <a:off x="7010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6" name="Прямоугольник 7"/>
          <p:cNvSpPr/>
          <p:nvPr/>
        </p:nvSpPr>
        <p:spPr>
          <a:xfrm>
            <a:off x="206280" y="51814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а медицинская помощь, человек  ВСЕГО  =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оказанной  медицинской помощи на догоспитальном  этапе (всего)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в стационарных  условиях  (всего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Прямоугольник 10"/>
          <p:cNvSpPr/>
          <p:nvPr/>
        </p:nvSpPr>
        <p:spPr>
          <a:xfrm>
            <a:off x="163440" y="6087960"/>
            <a:ext cx="876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3 /(4/5)</a:t>
            </a:r>
            <a:r>
              <a:rPr b="1" lang="ru-RU" sz="22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 7  (8/9) +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+ 16 (17/18)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4" dur="125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7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8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0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0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5"/>
          <p:cNvSpPr/>
          <p:nvPr/>
        </p:nvSpPr>
        <p:spPr>
          <a:xfrm>
            <a:off x="2438280" y="1066680"/>
            <a:ext cx="436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5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TextBox 5"/>
          <p:cNvSpPr/>
          <p:nvPr/>
        </p:nvSpPr>
        <p:spPr>
          <a:xfrm>
            <a:off x="762120" y="2057400"/>
            <a:ext cx="761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 СЛУЖБЫ МЕДИЦИНЫ  КАТАСТРОФ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УБЪЕКТА 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19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2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2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3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152280" y="762120"/>
          <a:ext cx="6096240" cy="5776920"/>
        </p:xfrm>
        <a:graphic>
          <a:graphicData uri="http://schemas.openxmlformats.org/drawingml/2006/table">
            <a:tbl>
              <a:tblPr/>
              <a:tblGrid>
                <a:gridCol w="5486400"/>
                <a:gridCol w="609840"/>
              </a:tblGrid>
              <a:tr h="3963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marL="20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 экстренную консультативную медицинскую помощь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санитарно-авиационную помощь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нсультаций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заочные консультации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по телефону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лектронной поч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именение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технологий, всего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телемедицинские 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нет-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ные консультации, всего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оведением:                                                     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ческих операц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х мероприят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эвакуированных лиц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авиационным транспортом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авто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для оказания медицинской помощи 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ри медицинской эваку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оступивших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ционны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Прямоугольник 5"/>
          <p:cNvSpPr/>
          <p:nvPr/>
        </p:nvSpPr>
        <p:spPr>
          <a:xfrm>
            <a:off x="76320" y="2286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0" name="Прямоугольник 5"/>
          <p:cNvSpPr/>
          <p:nvPr/>
        </p:nvSpPr>
        <p:spPr>
          <a:xfrm>
            <a:off x="6248520" y="1600200"/>
            <a:ext cx="2819160" cy="4208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3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тр.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3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4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4  = стр.5 + 6 + 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7  = стр.8+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0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тр.11+1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3=стр.14+15+16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20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21+22+2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0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Прямоугольник 5"/>
          <p:cNvSpPr/>
          <p:nvPr/>
        </p:nvSpPr>
        <p:spPr>
          <a:xfrm>
            <a:off x="5335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1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2" name="Прямоугольник 1"/>
          <p:cNvSpPr/>
          <p:nvPr/>
        </p:nvSpPr>
        <p:spPr>
          <a:xfrm>
            <a:off x="1600200" y="31240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тавлено: 1 – препаратов крови (л.) __________,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 – медицинских грузов (тн.) __________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0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2"/>
          <p:cNvSpPr/>
          <p:nvPr/>
        </p:nvSpPr>
        <p:spPr>
          <a:xfrm>
            <a:off x="274680" y="144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выездной работе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ения экстренной и консультативной медицинской помощ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Прямоугольник 1"/>
          <p:cNvSpPr/>
          <p:nvPr/>
        </p:nvSpPr>
        <p:spPr>
          <a:xfrm>
            <a:off x="115200" y="5364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19080" y="798480"/>
            <a:ext cx="9037440" cy="541008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7"/>
          <p:cNvSpPr/>
          <p:nvPr/>
        </p:nvSpPr>
        <p:spPr>
          <a:xfrm>
            <a:off x="2389320" y="3048120"/>
            <a:ext cx="617220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4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=стр.2+3+4+5+6+7+8+9+10+11+12+13+14+15+1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Прямоугольник 8"/>
          <p:cNvSpPr/>
          <p:nvPr/>
        </p:nvSpPr>
        <p:spPr>
          <a:xfrm>
            <a:off x="2389320" y="3710160"/>
            <a:ext cx="6172200" cy="1923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 9   =   графа  15 + 21 + 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0  =   графа  16 + 22 + 2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1  =   графа  17 + 23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2  =   графа  18 + 24 + 3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3  =   графа  19 + 25 + 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4  =   графа  20 + 26 + 3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Прямоугольник 4"/>
          <p:cNvSpPr/>
          <p:nvPr/>
        </p:nvSpPr>
        <p:spPr>
          <a:xfrm>
            <a:off x="1523880" y="5668920"/>
            <a:ext cx="746784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всего =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у эвакуированных в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гиональ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жрайон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едеральные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рганизации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0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6" dur="125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5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66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1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7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8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Прямоугольник 2"/>
          <p:cNvSpPr/>
          <p:nvPr/>
        </p:nvSpPr>
        <p:spPr>
          <a:xfrm>
            <a:off x="1676520" y="838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ТАБЛИЧНЫЙ    КОНТРОЛЬ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0" name="Прямоугольник 4"/>
          <p:cNvSpPr/>
          <p:nvPr/>
        </p:nvSpPr>
        <p:spPr>
          <a:xfrm>
            <a:off x="233280" y="17524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получивших экстренную консультативную медицинскую помощь, пострадавшим в ЧС=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числу оказанной экстренной консультативной медицинской помощи,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адавшим в ЧС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Прямоугольник 1"/>
          <p:cNvSpPr/>
          <p:nvPr/>
        </p:nvSpPr>
        <p:spPr>
          <a:xfrm>
            <a:off x="271440" y="304812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 гр. 10 (11/12) + стр. 1 гр. 19(20/21) =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= таблица 4 000  стр. 1 гр. 6 (7/8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Прямоугольник 4"/>
          <p:cNvSpPr/>
          <p:nvPr/>
        </p:nvSpPr>
        <p:spPr>
          <a:xfrm>
            <a:off x="195120" y="4173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отделениями экстренной и консультативной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Прямоугольник 1"/>
          <p:cNvSpPr/>
          <p:nvPr/>
        </p:nvSpPr>
        <p:spPr>
          <a:xfrm>
            <a:off x="233280" y="49528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3 гр.3 (4/5) = таблица 4 000  стр. 1 гр. 9 (10/11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0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08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Box 5"/>
          <p:cNvSpPr/>
          <p:nvPr/>
        </p:nvSpPr>
        <p:spPr>
          <a:xfrm>
            <a:off x="1676520" y="1676520"/>
            <a:ext cx="534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№№ 55 и 56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914400" y="2895480"/>
            <a:ext cx="72388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СТАВИТЬ В 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УХ ЭКЗЕМПЛЯРАХ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0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1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25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25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25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6"/>
          <p:cNvSpPr/>
          <p:nvPr/>
        </p:nvSpPr>
        <p:spPr>
          <a:xfrm>
            <a:off x="1258920" y="1413000"/>
            <a:ext cx="59770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Благодарю</a:t>
            </a:r>
            <a:br>
              <a:rPr sz="6000"/>
            </a:b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за </a:t>
            </a:r>
            <a:br>
              <a:rPr sz="6000"/>
            </a:b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внимание!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7" name="Прямоугольник 2"/>
          <p:cNvSpPr/>
          <p:nvPr/>
        </p:nvSpPr>
        <p:spPr>
          <a:xfrm>
            <a:off x="144360" y="5029200"/>
            <a:ext cx="7739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ГБУ ВЦМК «ЗАЩИТА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 статистики и информационно-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еской обработки ЦУКС Штаба ВСМК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л. 8 (499) 190-46-1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0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3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1676520" y="46656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центре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47760" y="1206360"/>
          <a:ext cx="8262720" cy="4524480"/>
        </p:xfrm>
        <a:graphic>
          <a:graphicData uri="http://schemas.openxmlformats.org/drawingml/2006/table">
            <a:tbl>
              <a:tblPr/>
              <a:tblGrid>
                <a:gridCol w="5638680"/>
                <a:gridCol w="838080"/>
                <a:gridCol w="1785960"/>
              </a:tblGrid>
              <a:tr h="61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да -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: самостоятельный цен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 центра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на базе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ей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чиненност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айон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егион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Прямоугольник 3"/>
          <p:cNvSpPr/>
          <p:nvPr/>
        </p:nvSpPr>
        <p:spPr>
          <a:xfrm>
            <a:off x="471960" y="8366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Прямоугольник 4"/>
          <p:cNvSpPr/>
          <p:nvPr/>
        </p:nvSpPr>
        <p:spPr>
          <a:xfrm>
            <a:off x="369720" y="571500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1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4 + 5 + 6 + 7 + 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9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10 + 11 + 12 + 13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125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"/>
          <p:cNvSpPr/>
          <p:nvPr/>
        </p:nvSpPr>
        <p:spPr>
          <a:xfrm>
            <a:off x="1143000" y="5112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центров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349560" y="990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04920" y="1371600"/>
          <a:ext cx="8458200" cy="4738680"/>
        </p:xfrm>
        <a:graphic>
          <a:graphicData uri="http://schemas.openxmlformats.org/drawingml/2006/table">
            <a:tbl>
              <a:tblPr/>
              <a:tblGrid>
                <a:gridCol w="2438280"/>
                <a:gridCol w="609480"/>
                <a:gridCol w="533520"/>
                <a:gridCol w="514440"/>
                <a:gridCol w="1085760"/>
                <a:gridCol w="914400"/>
                <a:gridCol w="838080"/>
                <a:gridCol w="762120"/>
                <a:gridCol w="762120"/>
              </a:tblGrid>
              <a:tr h="6397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татус спас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всего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 том числе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едицинск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м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з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 -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–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Прямоугольник 4"/>
          <p:cNvSpPr/>
          <p:nvPr/>
        </p:nvSpPr>
        <p:spPr>
          <a:xfrm>
            <a:off x="3429000" y="3048120"/>
            <a:ext cx="5334120" cy="1313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43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2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3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8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9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1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7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7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1"/>
          <p:cNvSpPr/>
          <p:nvPr/>
        </p:nvSpPr>
        <p:spPr>
          <a:xfrm>
            <a:off x="685800" y="685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(СМК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Прямоугольник 2"/>
          <p:cNvSpPr/>
          <p:nvPr/>
        </p:nvSpPr>
        <p:spPr>
          <a:xfrm>
            <a:off x="197280" y="132876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8" name="Таблица 3" descr=""/>
          <p:cNvPicPr/>
          <p:nvPr/>
        </p:nvPicPr>
        <p:blipFill>
          <a:blip r:embed="rId1"/>
          <a:stretch/>
        </p:blipFill>
        <p:spPr>
          <a:xfrm>
            <a:off x="225360" y="1689120"/>
            <a:ext cx="8693280" cy="177336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222120" y="3633840"/>
            <a:ext cx="8845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графе 3 указываем число всех формирований СМК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графе 4 указываем число формирований, состоящих в штате ЦМК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Прямоугольник 4"/>
          <p:cNvSpPr/>
          <p:nvPr/>
        </p:nvSpPr>
        <p:spPr>
          <a:xfrm>
            <a:off x="184320" y="4572000"/>
            <a:ext cx="8721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3 и 4 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азываем число формирований задействованных в СМК (на конец отчетного года)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Прямоугольник 4"/>
          <p:cNvSpPr/>
          <p:nvPr/>
        </p:nvSpPr>
        <p:spPr>
          <a:xfrm>
            <a:off x="184320" y="5486400"/>
            <a:ext cx="86644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5 и 6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указываем количество выездов формирований СМК  на ликвидацию медико-санитарных последствий ЧС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1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9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9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1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11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533520" y="112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МК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Прямоугольник 2"/>
          <p:cNvSpPr/>
          <p:nvPr/>
        </p:nvSpPr>
        <p:spPr>
          <a:xfrm>
            <a:off x="6324480" y="59040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4" name="Таблица 3" descr=""/>
          <p:cNvPicPr/>
          <p:nvPr/>
        </p:nvPicPr>
        <p:blipFill>
          <a:blip r:embed="rId1"/>
          <a:stretch/>
        </p:blipFill>
        <p:spPr>
          <a:xfrm>
            <a:off x="281160" y="2073240"/>
            <a:ext cx="8691480" cy="176688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4"/>
          <p:cNvSpPr/>
          <p:nvPr/>
        </p:nvSpPr>
        <p:spPr>
          <a:xfrm>
            <a:off x="304920" y="1074600"/>
            <a:ext cx="864540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таблица 3000 стр.1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=</a:t>
            </a: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стр. 2+3+4+5+30+31+32+33+50+51+52+56+57+58+59+60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Прямоугольник 4"/>
          <p:cNvSpPr/>
          <p:nvPr/>
        </p:nvSpPr>
        <p:spPr>
          <a:xfrm>
            <a:off x="1558800" y="1905120"/>
            <a:ext cx="7391520" cy="5031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ирования службы медицины катастроф, всего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1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ходят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вой многопрофильный госпиталь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го реаг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специализирован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ебно-сестр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й доврачеб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противоэпидем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радиационн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санитарно-эпидемиологическ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7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химической (токсикологической)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ая  группа ТЦМК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е форм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6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125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2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3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4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4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414360" y="6858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604800" y="4495680"/>
            <a:ext cx="815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ЧС с медико-санитарными последствиями должны соответствовать, представленным донесениям в ВСЕРОССИЙСКУЮ СИСТЕМУ ОПЕРАТИВНЫХ ДОНЕСЕНИЙ О ЧРЕЗВЫЧАЙНЫХ СИТУАЦИЯХ в ВЦМК «ЗАЩИТА»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2308320" y="1495440"/>
            <a:ext cx="425772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125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61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7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8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9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"/>
          <p:cNvSpPr/>
          <p:nvPr/>
        </p:nvSpPr>
        <p:spPr>
          <a:xfrm>
            <a:off x="423720" y="6094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Прямоугольник 2"/>
          <p:cNvSpPr/>
          <p:nvPr/>
        </p:nvSpPr>
        <p:spPr>
          <a:xfrm>
            <a:off x="408240" y="137160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2" name="Таблица 8" descr=""/>
          <p:cNvPicPr/>
          <p:nvPr/>
        </p:nvPicPr>
        <p:blipFill>
          <a:blip r:embed="rId1"/>
          <a:stretch/>
        </p:blipFill>
        <p:spPr>
          <a:xfrm>
            <a:off x="407880" y="1639800"/>
            <a:ext cx="8205840" cy="318132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4"/>
          <p:cNvSpPr/>
          <p:nvPr/>
        </p:nvSpPr>
        <p:spPr>
          <a:xfrm>
            <a:off x="542880" y="4863960"/>
            <a:ext cx="80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страдавших = число пораженных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погибш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Прямоугольник 5"/>
          <p:cNvSpPr/>
          <p:nvPr/>
        </p:nvSpPr>
        <p:spPr>
          <a:xfrm>
            <a:off x="228600" y="5334120"/>
            <a:ext cx="872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гибшими (графа 8 и 9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читаются люди, которые умерли на месте ЧС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до прибытия бригад СМП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Прямоугольник 6"/>
          <p:cNvSpPr/>
          <p:nvPr/>
        </p:nvSpPr>
        <p:spPr>
          <a:xfrm>
            <a:off x="652320" y="6041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= числу крайне тяжелых + тяжелых +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+ средней тяжести + легк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125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7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8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9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97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20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2"/>
          <p:cNvSpPr/>
          <p:nvPr/>
        </p:nvSpPr>
        <p:spPr>
          <a:xfrm>
            <a:off x="6315120" y="83808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80880" y="1504800"/>
          <a:ext cx="8458200" cy="2333880"/>
        </p:xfrm>
        <a:graphic>
          <a:graphicData uri="http://schemas.openxmlformats.org/drawingml/2006/table">
            <a:tbl>
              <a:tblPr/>
              <a:tblGrid>
                <a:gridCol w="1447920"/>
                <a:gridCol w="457200"/>
                <a:gridCol w="914400"/>
                <a:gridCol w="762120"/>
                <a:gridCol w="609480"/>
                <a:gridCol w="609480"/>
                <a:gridCol w="990720"/>
                <a:gridCol w="838080"/>
                <a:gridCol w="1041480"/>
                <a:gridCol w="787320"/>
              </a:tblGrid>
              <a:tr h="411480"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чрезвычайных ситу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пораженных, которым оказана первая помощ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ы оказанн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в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ик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нитар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ециализированна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, высоко-технолог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орая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скорая  специализирова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57600" rIns="576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Прямоугольник 3"/>
          <p:cNvSpPr/>
          <p:nvPr/>
        </p:nvSpPr>
        <p:spPr>
          <a:xfrm>
            <a:off x="380880" y="38862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6/7)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Прямоугольник 3"/>
          <p:cNvSpPr/>
          <p:nvPr/>
        </p:nvSpPr>
        <p:spPr>
          <a:xfrm>
            <a:off x="1473120" y="43434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, которым оказана первая 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18/1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первичная медико-санитарная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0/2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пециализированная, в т.ч. высокотехнологичная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2/2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корая, в т.ч. скорая специализированная мед.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4/2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Прямоугольник 4"/>
          <p:cNvSpPr/>
          <p:nvPr/>
        </p:nvSpPr>
        <p:spPr>
          <a:xfrm>
            <a:off x="1295280" y="5791320"/>
            <a:ext cx="66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.е. одному пострадавшему в ЧС может быть оказано несколько видов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пов</dc:creator>
  <dc:description/>
  <dc:language>en-US</dc:language>
  <cp:lastModifiedBy>Магазейщикова Наталья Геннадиевна</cp:lastModifiedBy>
  <cp:lastPrinted>2016-12-07T09:58:05Z</cp:lastPrinted>
  <dcterms:modified xsi:type="dcterms:W3CDTF">2019-12-03T12:19:28Z</dcterms:modified>
  <cp:revision>5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